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692B58-41F3-44A0-8859-D8D04EFE46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6AFBD4-FA25-41FE-83C6-1F9433C46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6B8B6-D619-42B6-A242-7B0CC828D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BE7F55-C7FA-4939-B078-4EB2B9D99E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C90E05-C9F6-4F11-8E7B-5B689FA565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C68FF-E8C0-4905-A858-69CA3BF27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399B7F-FCFE-4907-A8D1-4AB146E8E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6FF7F0-6EE9-47EC-8F45-BE96D3CEE9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7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FDEBC3-5BA5-408E-8192-294448C981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040B67-373B-425D-8961-3DF269297B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88"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DE071B-CAAA-4CC1-8C8B-0AB41C523C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0"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115CDC-BD6F-4F4C-96C7-4508502777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389B09-7E1F-4620-87F9-E7160EAA9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F8D06-9971-4F91-BFB6-1A32006116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6DE2A-B87B-4C17-A6D4-66FF8C703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D00AB-D08B-4E52-A372-A823449A1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DE485-06E3-47FC-9A4A-9BD607565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07A72D-E0F2-499C-A281-1F13C6476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9"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0172DE-9422-4FD4-9808-6E840FD6A1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246988-D82D-4544-8489-43C5B0C26B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7"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742DE2-8389-4C76-820A-D324F44DBB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3B884F-1014-4405-9B3F-6B21EAB11A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1"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B83A5F-0C64-42B2-A768-8192BBFE65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3"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0D33AD-C8F3-4983-B536-4FCFD9AB59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039FF1-EFE7-4ADC-912E-455E2BFFD6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42DCCA-6B38-4061-BA63-CECF2ACD5A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0B2A4B-CEC1-412C-9038-DDAA825B07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90A380-5FA7-4CA9-AA67-EA8E50ADEA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E54A77-CBAB-4759-999E-015D2BD8C6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6B584D-4223-43FD-9824-506E85137A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6ED23-DED9-4AA1-9BD5-FDAD67436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2"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E6671D-DB1F-47EA-BA87-C634FE1F39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8E367B-928B-4165-8222-40D420FE71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0"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0138D4-AA0C-413C-968C-26C612324A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34157D-9E1D-4CC6-98B2-BC6C585BF1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4"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78D7CA-3D5B-4EB0-99D9-FF70F73415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6"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2C47E1-E504-44CB-9E0B-83DFFBEA04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660E72-2DF6-44A6-BD50-095B86CD4C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82F733-4181-41E1-B019-68DCD8125F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81B67E-6267-4D49-8AE0-C936B4F749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7DD93E-2CB9-46F7-AE91-65230C5BD6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DDEE8-9ED1-4EBB-95A6-A6E9E048A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CE49E1-984D-495D-865A-7A4730CAAC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E406CA-D818-4F16-AFE8-F0526B6457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5"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51C4E0-D5AE-441F-B70E-852E27C051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85BF350-4189-4E95-BB64-58FD3A6706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3"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60EA21-6A3E-4F23-B72E-35967D2458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6CF87E-AA46-448F-99C3-24E0ACAB4E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924D87-357D-43E4-A0D1-3733B7C40E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103EB4-BBD2-4CB0-8063-D18EB43DE3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F677AB-EA96-4FD0-8D0B-16E607686C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74DD45-AF44-4612-9C0D-22937DB77B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7FF51-C641-44D7-A9D2-DFA04B3D0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FCC56D-9D8C-4620-84EB-909F93A976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E88D2C-D9FD-441E-8351-C6E7EE5857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220A50-6F47-4604-90C1-81EE1DFFF8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44E9D4-2083-4981-A743-A2F35400E1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DB04D9-08C3-4EF6-ADB0-1278DBBD3A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35A7E1-83F4-4395-A338-AE40C5C175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3DD664-7734-4956-958B-4AAE8E9A53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39D2F-6DBE-4878-8F7B-6FE34966C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57DC7-03C5-4A3F-9DA2-20D0653BB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25C9E-3ECE-431B-8FE7-B14C6109C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FCF3F-398D-4102-9F66-978BD3BC3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2BEC-8A1A-4E67-90F9-B212DA408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7C98B-260E-4384-B325-A7C270DE6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2FD2A-5D93-451A-8724-E25B1432C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F2657-B795-492E-BC63-6219E4570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A5024-16F9-4373-9ADE-47B40DEFB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E2FAB-BE3B-438B-999C-4B996D44C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05DA9-F205-410D-90C6-DF3B3C1A9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60F8F-46AD-4598-A3B6-D304D211A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42B45-ECC0-4BB5-8CEF-73D84DA5E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57450-1D21-4E1A-9ECC-E63D9A369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6FDBB-FB56-4171-A7AD-458F05C64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47E95-AD22-4F60-A6A0-86CF18984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427C9-94E8-4A5A-B803-125504086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FBD25-9791-4EBE-8980-04A1F8586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ED2F9-5146-44F5-9EC9-EC840B37C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17FB1-AE58-477A-8105-211DB50C1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CC99D-0765-4109-B0FF-5E28FBD5A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0"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2"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1"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9"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8FD168-5EA9-415C-89E3-558A0A5A08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3"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34B3E-7676-40D8-9EA4-330AB9EB2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6B7EE-5ADF-4F2B-A37B-FF596B709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9414A-1042-4174-AEDA-486A93D63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9FE8A-F7D6-4327-8A52-8F78FE878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FD1E3-0182-4EDF-8669-DD4191CC10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5A9D2-7479-46CE-B13C-4D795A1C0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C17AA-9581-4885-B08D-81BA82278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49990-5951-41C6-B747-406463506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4"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D88A5-8978-43DF-9C17-E6D45127CE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0BC923-68BD-4C9E-B1D0-A576BB9AFE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02"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616CBB-407F-4CDA-9CF8-F9E5C9704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E1DD75-7CDE-42AC-91F1-58E0C520EB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13A71A-7F06-4A62-94E9-33F6B84F3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1FB0E-43DB-48A9-8D80-9F66EDE69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544983-36CE-4B18-9B36-57D7825C5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88B32-98B8-47B8-9B9B-C648A2E4C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822BBA-3E53-459E-8940-9EBF3B265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0D7F8-F588-4393-9145-50B31511E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532C5-18D8-41BC-8AEF-A83B0F768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CFBB6-89EF-4E56-9B45-1B9594BDA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80A5D-AC9C-4DE3-BA2D-E56DF794BC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5A0767-7A1A-4CB9-A2C3-9072C60128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D1F3BF-B3D3-4034-AE58-1D4202ABDC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9D7C86-E191-4251-B2BC-40A80C482C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59"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064CC-A627-4EEA-9B84-0F067D318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1"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F354CD-605C-47B9-802D-7D17B979B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5FB98-057C-471B-947A-63F757294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B00851-4DC6-4F24-81D0-A4EFFEF851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52B660-D0FC-4D63-AE1D-74CC1FA376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42BBD-E3E7-4A51-A91D-C24B2872A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82E5F-1C1A-4828-9DFC-CB88A1C3F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DB25D-5271-4971-8720-1064C5249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0"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C2CF83-2227-4C06-AD59-8A39AC9828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42893F-D531-4BE9-87D9-F24AB8F507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8"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00F24F-8FCE-409F-9D52-595EC83DC4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CD4621-E275-4A8A-B167-73772C4D83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2"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068156-6B1B-4B99-9CDE-6437287205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4"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DA9ED1-6E8F-4D63-85E1-29EA37BA9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1C85C3-F742-4D73-A908-350CB77817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5634E-C7D5-4203-8D6C-DC63479B5B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2A1B7F-2680-4840-8B7F-BF94B6F56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CA376-4452-4364-88C5-DED653CAE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A84720-F4B4-4E05-874E-73AEC0B9D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466BB1-302E-4159-9B8F-504D9DDA8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3"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6BCFB-8E09-45BE-9813-5BBBF457A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DC8D0F-9566-44A2-A88D-FA1176DC4C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31"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52182F-02D2-40E8-8A42-E83471521B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5B854A-09A0-46E0-A25C-73EF6DE8E6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81322-2BD8-48F3-8544-2C0841D189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FF267C-DB9A-4239-B980-412E922AC3D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www.ocr.org.uk/computerscience" TargetMode="External"/><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6021360"/>
            <a:ext cx="9144000" cy="8287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3" descr=""/>
          <p:cNvPicPr/>
          <p:nvPr/>
        </p:nvPicPr>
        <p:blipFill>
          <a:blip r:embed="rId2"/>
          <a:stretch/>
        </p:blipFill>
        <p:spPr>
          <a:xfrm>
            <a:off x="0" y="6021360"/>
            <a:ext cx="9144000" cy="828720"/>
          </a:xfrm>
          <a:prstGeom prst="rect">
            <a:avLst/>
          </a:prstGeom>
          <a:ln w="0">
            <a:noFill/>
          </a:ln>
        </p:spPr>
      </p:pic>
      <p:sp>
        <p:nvSpPr>
          <p:cNvPr id="381"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83"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050F-0238-451A-9397-B7C43A3B240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3" descr=""/>
          <p:cNvPicPr/>
          <p:nvPr/>
        </p:nvPicPr>
        <p:blipFill>
          <a:blip r:embed="rId2"/>
          <a:stretch/>
        </p:blipFill>
        <p:spPr>
          <a:xfrm>
            <a:off x="0" y="6021360"/>
            <a:ext cx="9144000" cy="828720"/>
          </a:xfrm>
          <a:prstGeom prst="rect">
            <a:avLst/>
          </a:prstGeom>
          <a:ln w="0">
            <a:noFill/>
          </a:ln>
        </p:spPr>
      </p:pic>
      <p:sp>
        <p:nvSpPr>
          <p:cNvPr id="424"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26"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8B97-1FB4-41F7-B9A2-E7B86F0D156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3" descr=""/>
          <p:cNvPicPr/>
          <p:nvPr/>
        </p:nvPicPr>
        <p:blipFill>
          <a:blip r:embed="rId2"/>
          <a:stretch/>
        </p:blipFill>
        <p:spPr>
          <a:xfrm>
            <a:off x="0" y="6021360"/>
            <a:ext cx="9144000" cy="828720"/>
          </a:xfrm>
          <a:prstGeom prst="rect">
            <a:avLst/>
          </a:prstGeom>
          <a:ln w="0">
            <a:noFill/>
          </a:ln>
        </p:spPr>
      </p:pic>
      <p:sp>
        <p:nvSpPr>
          <p:cNvPr id="467"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69"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D0A5-E78B-4250-AA3C-9CDA85A8679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3" descr=""/>
          <p:cNvPicPr/>
          <p:nvPr/>
        </p:nvPicPr>
        <p:blipFill>
          <a:blip r:embed="rId2"/>
          <a:stretch/>
        </p:blipFill>
        <p:spPr>
          <a:xfrm>
            <a:off x="0" y="6021360"/>
            <a:ext cx="9144000" cy="828720"/>
          </a:xfrm>
          <a:prstGeom prst="rect">
            <a:avLst/>
          </a:prstGeom>
          <a:ln w="0">
            <a:noFill/>
          </a:ln>
        </p:spPr>
      </p:pic>
      <p:sp>
        <p:nvSpPr>
          <p:cNvPr id="510"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51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BD02-FA6A-44AC-8CB4-0B2E66BEEBF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F5DC-48A5-4160-B357-691C5838A4D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FCE1-F2CA-43A2-A132-44CDE4BAD10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3" descr=""/>
          <p:cNvPicPr/>
          <p:nvPr/>
        </p:nvPicPr>
        <p:blipFill>
          <a:blip r:embed="rId2"/>
          <a:stretch/>
        </p:blipFill>
        <p:spPr>
          <a:xfrm>
            <a:off x="0" y="6021360"/>
            <a:ext cx="9144000" cy="828720"/>
          </a:xfrm>
          <a:prstGeom prst="rect">
            <a:avLst/>
          </a:prstGeom>
          <a:ln w="0">
            <a:noFill/>
          </a:ln>
        </p:spPr>
      </p:pic>
      <p:sp>
        <p:nvSpPr>
          <p:cNvPr id="12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24" name="Rectangle 5"/>
          <p:cNvSpPr/>
          <p:nvPr/>
        </p:nvSpPr>
        <p:spPr>
          <a:xfrm>
            <a:off x="0" y="6021360"/>
            <a:ext cx="9252000" cy="83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 name="Content Placeholder 2" descr="GCSE (9-1) Computer Science "/>
          <p:cNvPicPr/>
          <p:nvPr/>
        </p:nvPicPr>
        <p:blipFill>
          <a:blip r:embed="rId3"/>
          <a:stretch/>
        </p:blipFill>
        <p:spPr>
          <a:xfrm>
            <a:off x="0" y="-27000"/>
            <a:ext cx="9180360" cy="6885000"/>
          </a:xfrm>
          <a:prstGeom prst="rect">
            <a:avLst/>
          </a:prstGeom>
          <a:ln w="0">
            <a:noFill/>
          </a:ln>
        </p:spPr>
      </p:pic>
      <p:sp>
        <p:nvSpPr>
          <p:cNvPr id="126" name="TextBox 8">
            <a:hlinkClick r:id="rId4"/>
          </p:cNvPr>
          <p:cNvSpPr/>
          <p:nvPr/>
        </p:nvSpPr>
        <p:spPr>
          <a:xfrm>
            <a:off x="395280" y="5013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2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3" descr=""/>
          <p:cNvPicPr/>
          <p:nvPr/>
        </p:nvPicPr>
        <p:blipFill>
          <a:blip r:embed="rId2"/>
          <a:stretch/>
        </p:blipFill>
        <p:spPr>
          <a:xfrm>
            <a:off x="0" y="6021360"/>
            <a:ext cx="9144000" cy="828720"/>
          </a:xfrm>
          <a:prstGeom prst="rect">
            <a:avLst/>
          </a:prstGeom>
          <a:ln w="0">
            <a:noFill/>
          </a:ln>
        </p:spPr>
      </p:pic>
      <p:sp>
        <p:nvSpPr>
          <p:cNvPr id="166"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6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E0A4-0A3A-4699-AA9C-8D7115D4252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3" descr=""/>
          <p:cNvPicPr/>
          <p:nvPr/>
        </p:nvPicPr>
        <p:blipFill>
          <a:blip r:embed="rId2"/>
          <a:stretch/>
        </p:blipFill>
        <p:spPr>
          <a:xfrm>
            <a:off x="0" y="6021360"/>
            <a:ext cx="9144000" cy="828720"/>
          </a:xfrm>
          <a:prstGeom prst="rect">
            <a:avLst/>
          </a:prstGeom>
          <a:ln w="0">
            <a:noFill/>
          </a:ln>
        </p:spPr>
      </p:pic>
      <p:sp>
        <p:nvSpPr>
          <p:cNvPr id="209"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11"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260A-347F-48C2-A77C-7C4390525B6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3" descr=""/>
          <p:cNvPicPr/>
          <p:nvPr/>
        </p:nvPicPr>
        <p:blipFill>
          <a:blip r:embed="rId2"/>
          <a:stretch/>
        </p:blipFill>
        <p:spPr>
          <a:xfrm>
            <a:off x="0" y="6021360"/>
            <a:ext cx="9144000" cy="828720"/>
          </a:xfrm>
          <a:prstGeom prst="rect">
            <a:avLst/>
          </a:prstGeom>
          <a:ln w="0">
            <a:noFill/>
          </a:ln>
        </p:spPr>
      </p:pic>
      <p:sp>
        <p:nvSpPr>
          <p:cNvPr id="252"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54"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A355-668C-4DF2-82F1-A99A7812C5F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3" descr=""/>
          <p:cNvPicPr/>
          <p:nvPr/>
        </p:nvPicPr>
        <p:blipFill>
          <a:blip r:embed="rId2"/>
          <a:stretch/>
        </p:blipFill>
        <p:spPr>
          <a:xfrm>
            <a:off x="0" y="6021360"/>
            <a:ext cx="9144000" cy="828720"/>
          </a:xfrm>
          <a:prstGeom prst="rect">
            <a:avLst/>
          </a:prstGeom>
          <a:ln w="0">
            <a:noFill/>
          </a:ln>
        </p:spPr>
      </p:pic>
      <p:sp>
        <p:nvSpPr>
          <p:cNvPr id="295"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97"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4681-46A8-495B-A83B-8A28A3BB08F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3" descr=""/>
          <p:cNvPicPr/>
          <p:nvPr/>
        </p:nvPicPr>
        <p:blipFill>
          <a:blip r:embed="rId2"/>
          <a:stretch/>
        </p:blipFill>
        <p:spPr>
          <a:xfrm>
            <a:off x="0" y="6021360"/>
            <a:ext cx="9144000" cy="828720"/>
          </a:xfrm>
          <a:prstGeom prst="rect">
            <a:avLst/>
          </a:prstGeom>
          <a:ln w="0">
            <a:noFill/>
          </a:ln>
        </p:spPr>
      </p:pic>
      <p:sp>
        <p:nvSpPr>
          <p:cNvPr id="338"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40"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9519-7557-4006-9E8B-EC1FD8C713F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95-yZ-31j9A" TargetMode="External"/><Relationship Id="rId2" Type="http://schemas.openxmlformats.org/officeDocument/2006/relationships/image" Target="../media/image3.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94920" y="2852640"/>
            <a:ext cx="331308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 1.5 - Network Topologies, protocols </a:t>
            </a:r>
            <a:br>
              <a:rPr sz="1800"/>
            </a:br>
            <a:r>
              <a:rPr b="1" lang="en-US" sz="1800" spc="-1" strike="noStrike">
                <a:solidFill>
                  <a:srgbClr val="ffffff"/>
                </a:solidFill>
                <a:latin typeface="Arial"/>
              </a:rPr>
              <a:t>and layers</a:t>
            </a:r>
            <a:br>
              <a:rPr sz="1800"/>
            </a:br>
            <a:r>
              <a:rPr b="1" lang="en-US" sz="1800" spc="-1" strike="noStrike">
                <a:solidFill>
                  <a:srgbClr val="ffffff"/>
                </a:solidFill>
                <a:latin typeface="Arial"/>
              </a:rPr>
              <a:t>Lesson 3</a:t>
            </a:r>
            <a:br>
              <a:rPr sz="1800"/>
            </a:br>
            <a:endParaRPr b="0" lang="en-US" sz="1800" spc="-1" strike="noStrike">
              <a:solidFill>
                <a:srgbClr val="7ccf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000" spc="-1" strike="noStrike">
                <a:solidFill>
                  <a:srgbClr val="ffffff"/>
                </a:solidFill>
                <a:latin typeface="Arial"/>
              </a:rPr>
              <a:t>Activity 1 – Understanding a Packet</a:t>
            </a:r>
            <a:endParaRPr b="0" lang="en-US" sz="4000" spc="-1" strike="noStrike">
              <a:solidFill>
                <a:srgbClr val="7ccfdb"/>
              </a:solidFill>
              <a:latin typeface="Arial"/>
            </a:endParaRPr>
          </a:p>
        </p:txBody>
      </p:sp>
      <p:sp>
        <p:nvSpPr>
          <p:cNvPr id="572" name="Text Placeholder 2"/>
          <p:cNvSpPr/>
          <p:nvPr/>
        </p:nvSpPr>
        <p:spPr>
          <a:xfrm>
            <a:off x="485640" y="5213520"/>
            <a:ext cx="8280360" cy="102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 one of the parts of the packets that you do not know.</a:t>
            </a:r>
            <a:br>
              <a:rPr sz="2000"/>
            </a:br>
            <a:r>
              <a:rPr b="0" lang="en-GB" sz="2000" spc="-1" strike="noStrike">
                <a:solidFill>
                  <a:srgbClr val="000000"/>
                </a:solidFill>
                <a:latin typeface="Arial"/>
              </a:rPr>
              <a:t>Explain it to another students.</a:t>
            </a:r>
            <a:endParaRPr b="0" lang="en-US" sz="2000" spc="-1" strike="noStrike">
              <a:solidFill>
                <a:srgbClr val="000000"/>
              </a:solidFill>
              <a:latin typeface="Calibri"/>
            </a:endParaRPr>
          </a:p>
        </p:txBody>
      </p:sp>
      <p:pic>
        <p:nvPicPr>
          <p:cNvPr id="573" name="Picture 4" descr="Packet bit diagram"/>
          <p:cNvPicPr/>
          <p:nvPr/>
        </p:nvPicPr>
        <p:blipFill>
          <a:blip r:embed="rId1"/>
          <a:stretch/>
        </p:blipFill>
        <p:spPr>
          <a:xfrm>
            <a:off x="2155680" y="1268280"/>
            <a:ext cx="4905360" cy="38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Video</a:t>
            </a:r>
            <a:endParaRPr b="0" lang="en-US" sz="4400" spc="-1" strike="noStrike">
              <a:solidFill>
                <a:srgbClr val="7ccfdb"/>
              </a:solidFill>
              <a:latin typeface="Arial"/>
            </a:endParaRPr>
          </a:p>
        </p:txBody>
      </p:sp>
      <p:sp>
        <p:nvSpPr>
          <p:cNvPr id="575" name="Text Placeholder 2"/>
          <p:cNvSpPr/>
          <p:nvPr/>
        </p:nvSpPr>
        <p:spPr>
          <a:xfrm>
            <a:off x="468360" y="1773360"/>
            <a:ext cx="8280360" cy="115092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youtube.com/watch?v=WwyJGzZmBe8</a:t>
            </a:r>
            <a:endParaRPr b="0" lang="en-US" sz="32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6" name="Picture 5" descr="Youtube screenshot"/>
          <p:cNvPicPr/>
          <p:nvPr/>
        </p:nvPicPr>
        <p:blipFill>
          <a:blip r:embed="rId1"/>
          <a:stretch/>
        </p:blipFill>
        <p:spPr>
          <a:xfrm>
            <a:off x="2700360" y="3141720"/>
            <a:ext cx="3522600" cy="26319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2</a:t>
            </a:r>
            <a:endParaRPr b="0" lang="en-US" sz="4400" spc="-1" strike="noStrike">
              <a:solidFill>
                <a:srgbClr val="7ccfdb"/>
              </a:solidFill>
              <a:latin typeface="Arial"/>
            </a:endParaRPr>
          </a:p>
        </p:txBody>
      </p:sp>
      <p:sp>
        <p:nvSpPr>
          <p:cNvPr id="578" name=""/>
          <p:cNvSpPr txBox="1"/>
          <p:nvPr/>
        </p:nvSpPr>
        <p:spPr>
          <a:xfrm>
            <a:off x="457200" y="1600200"/>
            <a:ext cx="8229600" cy="42782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lay packet switching game</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ources from http://code-it.co.uk/netint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Layers</a:t>
            </a:r>
            <a:endParaRPr b="0" lang="en-US" sz="4400" spc="-1" strike="noStrike">
              <a:solidFill>
                <a:srgbClr val="7ccfdb"/>
              </a:solidFill>
              <a:latin typeface="Arial"/>
            </a:endParaRPr>
          </a:p>
        </p:txBody>
      </p:sp>
      <p:sp>
        <p:nvSpPr>
          <p:cNvPr id="580" name="Text Placeholder 2"/>
          <p:cNvSpPr/>
          <p:nvPr/>
        </p:nvSpPr>
        <p:spPr>
          <a:xfrm>
            <a:off x="468360" y="1773360"/>
            <a:ext cx="8280360" cy="115092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 packet is prepared the data travels through layers where protocols manage it, adding or removing extra information as required.</a:t>
            </a:r>
            <a:endParaRPr b="0" lang="en-US" sz="2800" spc="-1" strike="noStrike">
              <a:solidFill>
                <a:srgbClr val="000000"/>
              </a:solidFill>
              <a:latin typeface="Calibri"/>
            </a:endParaRPr>
          </a:p>
          <a:p>
            <a:pPr marL="233280" indent="-2332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www.youtube.com/watch?v=zyL1Fud1Z1c</a:t>
            </a:r>
            <a:endParaRPr b="0" lang="en-US" sz="2800" spc="-1" strike="noStrike">
              <a:solidFill>
                <a:srgbClr val="000000"/>
              </a:solidFill>
              <a:latin typeface="Calibri"/>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 Recap</a:t>
            </a:r>
            <a:endParaRPr b="0" lang="en-US" sz="4400" spc="-1" strike="noStrike">
              <a:solidFill>
                <a:srgbClr val="7ccfdb"/>
              </a:solidFill>
              <a:latin typeface="Arial"/>
            </a:endParaRPr>
          </a:p>
        </p:txBody>
      </p:sp>
      <p:sp>
        <p:nvSpPr>
          <p:cNvPr id="582" name="Text Placeholder 2"/>
          <p:cNvSpPr/>
          <p:nvPr/>
        </p:nvSpPr>
        <p:spPr>
          <a:xfrm>
            <a:off x="468360" y="1773360"/>
            <a:ext cx="8280360" cy="1150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yer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cket Switching</a:t>
            </a:r>
            <a:endParaRPr b="0" lang="en-US" sz="3200" spc="-1" strike="noStrike">
              <a:solidFill>
                <a:srgbClr val="000000"/>
              </a:solidFill>
              <a:latin typeface="Calibri"/>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lenary</a:t>
            </a:r>
            <a:endParaRPr b="0" lang="en-US" sz="4400" spc="-1" strike="noStrike">
              <a:solidFill>
                <a:srgbClr val="7ccfdb"/>
              </a:solidFill>
              <a:latin typeface="Arial"/>
            </a:endParaRPr>
          </a:p>
        </p:txBody>
      </p:sp>
      <p:sp>
        <p:nvSpPr>
          <p:cNvPr id="58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short film or story board explaining the concept of either:</a:t>
            </a:r>
            <a:endParaRPr b="0" lang="en-US" sz="3200" spc="-1" strike="noStrike">
              <a:solidFill>
                <a:srgbClr val="000000"/>
              </a:solidFill>
              <a:latin typeface="Calibri"/>
            </a:endParaRPr>
          </a:p>
          <a:p>
            <a:pPr lvl="1" marL="743040" indent="-28584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cket switching</a:t>
            </a:r>
            <a:endParaRPr b="0" lang="en-US" sz="2800" spc="-1" strike="noStrike">
              <a:solidFill>
                <a:srgbClr val="000000"/>
              </a:solidFill>
              <a:latin typeface="Calibri"/>
            </a:endParaRPr>
          </a:p>
          <a:p>
            <a:pPr lvl="1" marL="743040" indent="-28584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yers</a:t>
            </a:r>
            <a:endParaRPr b="0" lang="en-US" sz="28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quiz on the topics covered in this lesson</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ounded Rectangle 3"/>
          <p:cNvSpPr/>
          <p:nvPr/>
        </p:nvSpPr>
        <p:spPr>
          <a:xfrm>
            <a:off x="826920" y="4581360"/>
            <a:ext cx="7537680" cy="1224000"/>
          </a:xfrm>
          <a:prstGeom prst="roundRect">
            <a:avLst>
              <a:gd name="adj" fmla="val 16667"/>
            </a:avLst>
          </a:prstGeom>
          <a:solidFill>
            <a:srgbClr val="000000">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CR Resources</a:t>
            </a:r>
            <a:r>
              <a:rPr b="0" lang="en-GB" sz="800" spc="-1" strike="noStrike">
                <a:solidFill>
                  <a:srgbClr val="000000"/>
                </a:solidFill>
                <a:latin typeface="Arial"/>
              </a:rPr>
              <a:t>: </a:t>
            </a:r>
            <a:r>
              <a:rPr b="0" i="1" lang="en-GB" sz="800" spc="-1" strike="noStrike">
                <a:solidFill>
                  <a:srgbClr val="000000"/>
                </a:solidFill>
                <a:latin typeface="Arial"/>
              </a:rPr>
              <a:t>the small print</a:t>
            </a:r>
            <a:br>
              <a:rPr sz="800"/>
            </a:br>
            <a:r>
              <a:rPr b="0" lang="en-GB" sz="800" spc="-1" strike="noStrike">
                <a:solidFill>
                  <a:srgbClr val="000000"/>
                </a:solidFill>
                <a:latin typeface="Arial"/>
              </a:rPr>
              <a:t>OCR’s resources are provided to support the teaching of OCR specifications, but in no way constitute an endorsed teaching method that is required by the Board, and the decision to use them lies with the individual teacher.   Whilst every effort is made to ensure the accuracy of the content, OCR cannot be held responsible for any errors or omissions within these resources. </a:t>
            </a:r>
            <a:br>
              <a:rPr sz="800"/>
            </a:br>
            <a:r>
              <a:rPr b="0" lang="en-GB" sz="800" spc="-1" strike="noStrike">
                <a:solidFill>
                  <a:srgbClr val="000000"/>
                </a:solidFill>
                <a:latin typeface="Arial"/>
              </a:rPr>
              <a:t>© OCR 2016 - This resource may be freely copied and distributed, as long as the OCR logo and this message remain intact and OCR is acknowledged as the originator of this work.</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CR acknowledges the use of the following content: n/a</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ease get in touch if you want to discuss the accessibility of resources we offer to support delivery of our qualifications: </a:t>
            </a:r>
            <a:r>
              <a:rPr b="0" lang="en-GB" sz="800" spc="-1" strike="noStrike" u="sng">
                <a:solidFill>
                  <a:srgbClr val="000000"/>
                </a:solidFill>
                <a:uFillTx/>
                <a:latin typeface="Arial"/>
              </a:rPr>
              <a:t>resources.feedback@ocr.org.uk</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gagement Activity</a:t>
            </a:r>
            <a:endParaRPr b="0" lang="en-US" sz="4400" spc="-1" strike="noStrike">
              <a:solidFill>
                <a:srgbClr val="7ccfdb"/>
              </a:solidFill>
              <a:latin typeface="Arial"/>
            </a:endParaRPr>
          </a:p>
        </p:txBody>
      </p:sp>
      <p:sp>
        <p:nvSpPr>
          <p:cNvPr id="554" name=""/>
          <p:cNvSpPr txBox="1"/>
          <p:nvPr/>
        </p:nvSpPr>
        <p:spPr>
          <a:xfrm>
            <a:off x="457200" y="1600200"/>
            <a:ext cx="8229600" cy="4278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Internet any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youtube.com/watch?v=95-yZ-31j9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5" name="Picture 1" descr="Youtube screenshot">
            <a:hlinkClick r:id="rId1"/>
          </p:cNvPr>
          <p:cNvPicPr/>
          <p:nvPr/>
        </p:nvPicPr>
        <p:blipFill>
          <a:blip r:embed="rId2"/>
          <a:stretch/>
        </p:blipFill>
        <p:spPr>
          <a:xfrm>
            <a:off x="2700360" y="3213000"/>
            <a:ext cx="3522600" cy="2638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Big Picture</a:t>
            </a:r>
            <a:endParaRPr b="0" lang="en-US" sz="4400" spc="-1" strike="noStrike">
              <a:solidFill>
                <a:srgbClr val="7ccfdb"/>
              </a:solidFill>
              <a:latin typeface="Arial"/>
            </a:endParaRPr>
          </a:p>
        </p:txBody>
      </p:sp>
      <p:sp>
        <p:nvSpPr>
          <p:cNvPr id="557" name=""/>
          <p:cNvSpPr txBox="1"/>
          <p:nvPr/>
        </p:nvSpPr>
        <p:spPr>
          <a:xfrm>
            <a:off x="457200" y="1600200"/>
            <a:ext cx="8229600" cy="427824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s transfer and receive a lot of data </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one minute on the Internet: 640TB data transferred.  This lesson considers how such a huge amount of data is sent to ensure that it arrives at the correct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Learning Objectives</a:t>
            </a:r>
            <a:endParaRPr b="0" lang="en-US" sz="4400" spc="-1" strike="noStrike">
              <a:solidFill>
                <a:srgbClr val="7ccfdb"/>
              </a:solidFill>
              <a:latin typeface="Arial"/>
            </a:endParaRPr>
          </a:p>
        </p:txBody>
      </p:sp>
      <p:sp>
        <p:nvSpPr>
          <p:cNvPr id="559" name=""/>
          <p:cNvSpPr txBox="1"/>
          <p:nvPr/>
        </p:nvSpPr>
        <p:spPr>
          <a:xfrm>
            <a:off x="457200" y="1600200"/>
            <a:ext cx="8229600" cy="427824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now what layers are and their role</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able to explain the role of each layer</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derstand the concept of Packet Swit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a:t>
            </a:r>
            <a:endParaRPr b="0" lang="en-US" sz="4400" spc="-1" strike="noStrike">
              <a:solidFill>
                <a:srgbClr val="7ccfdb"/>
              </a:solidFill>
              <a:latin typeface="Arial"/>
            </a:endParaRPr>
          </a:p>
        </p:txBody>
      </p:sp>
      <p:sp>
        <p:nvSpPr>
          <p:cNvPr id="561" name=""/>
          <p:cNvSpPr txBox="1"/>
          <p:nvPr/>
        </p:nvSpPr>
        <p:spPr>
          <a:xfrm>
            <a:off x="457200" y="1600200"/>
            <a:ext cx="8229600" cy="427824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yers</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cket Swit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acket Switching</a:t>
            </a:r>
            <a:endParaRPr b="0" lang="en-US" sz="4400" spc="-1" strike="noStrike">
              <a:solidFill>
                <a:srgbClr val="7ccfdb"/>
              </a:solidFill>
              <a:latin typeface="Arial"/>
            </a:endParaRPr>
          </a:p>
        </p:txBody>
      </p:sp>
      <p:sp>
        <p:nvSpPr>
          <p:cNvPr id="563" name=""/>
          <p:cNvSpPr txBox="1"/>
          <p:nvPr/>
        </p:nvSpPr>
        <p:spPr>
          <a:xfrm>
            <a:off x="457200" y="1600200"/>
            <a:ext cx="8229600" cy="427824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agine that you have a large LEGO model to post through a letter box but, it does not fit.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could you do?</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f you could take the model apart and then post it through the letter box and then reassembly it?</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packet swit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acket Switching</a:t>
            </a:r>
            <a:endParaRPr b="0" lang="en-US" sz="4400" spc="-1" strike="noStrike">
              <a:solidFill>
                <a:srgbClr val="7ccfdb"/>
              </a:solidFill>
              <a:latin typeface="Arial"/>
            </a:endParaRPr>
          </a:p>
        </p:txBody>
      </p:sp>
      <p:sp>
        <p:nvSpPr>
          <p:cNvPr id="565" name=""/>
          <p:cNvSpPr txBox="1"/>
          <p:nvPr/>
        </p:nvSpPr>
        <p:spPr>
          <a:xfrm>
            <a:off x="457200" y="1600200"/>
            <a:ext cx="8229600" cy="427824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image you want to email a photo, first it is broken down into small packets of data</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packet is then given a header which contains the IP address of the network and device that it is being sent to.</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also contains the IP address of the network that it was sent fr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acket Switching</a:t>
            </a:r>
            <a:endParaRPr b="0" lang="en-US" sz="4400" spc="-1" strike="noStrike">
              <a:solidFill>
                <a:srgbClr val="7ccfdb"/>
              </a:solidFill>
              <a:latin typeface="Arial"/>
            </a:endParaRPr>
          </a:p>
        </p:txBody>
      </p:sp>
      <p:sp>
        <p:nvSpPr>
          <p:cNvPr id="567" name=""/>
          <p:cNvSpPr txBox="1"/>
          <p:nvPr/>
        </p:nvSpPr>
        <p:spPr>
          <a:xfrm>
            <a:off x="457200" y="1600200"/>
            <a:ext cx="8229600" cy="427824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header also contains the packet number as well as the total number of packets, for example packet 4 of 60, packet 45 of 60.</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the packets arrive at the destination this information is used to reassemble the data.</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ckets can be lost so sometimes the computer request the packet to be sent again, if a packet never arrives then it is deleted by the ro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n example Packet</a:t>
            </a:r>
            <a:endParaRPr b="0" lang="en-US" sz="4400" spc="-1" strike="noStrike">
              <a:solidFill>
                <a:srgbClr val="7ccfdb"/>
              </a:solidFill>
              <a:latin typeface="Arial"/>
            </a:endParaRPr>
          </a:p>
        </p:txBody>
      </p:sp>
      <p:pic>
        <p:nvPicPr>
          <p:cNvPr id="569" name="Picture 4" descr="Packet bit diagram"/>
          <p:cNvPicPr/>
          <p:nvPr/>
        </p:nvPicPr>
        <p:blipFill>
          <a:blip r:embed="rId1"/>
          <a:stretch/>
        </p:blipFill>
        <p:spPr>
          <a:xfrm>
            <a:off x="2124000" y="1341360"/>
            <a:ext cx="4905360" cy="3800520"/>
          </a:xfrm>
          <a:prstGeom prst="rect">
            <a:avLst/>
          </a:prstGeom>
          <a:ln w="0">
            <a:noFill/>
          </a:ln>
        </p:spPr>
      </p:pic>
      <p:sp>
        <p:nvSpPr>
          <p:cNvPr id="570" name="Text Placeholder 2"/>
          <p:cNvSpPr/>
          <p:nvPr/>
        </p:nvSpPr>
        <p:spPr>
          <a:xfrm>
            <a:off x="485640" y="5229360"/>
            <a:ext cx="8280360" cy="102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ptimus5.com/index.php?page=search/images&amp;search=tcp+ip+packet&amp;type=images&amp;startpage=4</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7T12:54:48Z</dcterms:created>
  <dc:creator>OCR</dc:creator>
  <dc:description/>
  <cp:keywords>GCSE Computer Science Networks Topologies protocols</cp:keywords>
  <dc:language>en-US</dc:language>
  <cp:lastModifiedBy>Dave Adams</cp:lastModifiedBy>
  <dcterms:modified xsi:type="dcterms:W3CDTF">2016-06-21T09:07:49Z</dcterms:modified>
  <cp:revision>37</cp:revision>
  <dc:subject/>
  <dc:title>GCSE (9-1) Computer Science Unit 1.5 Lesson 3</dc:title>
</cp:coreProperties>
</file>